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FAB-F71A-4A38-A276-8B92765C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65A-F9BC-40A3-8B38-8FDD846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1F4-1BC1-4CE2-9144-344B9848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6F8-945C-4552-A300-04AAB0D7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CAE1-540E-49E9-9FA6-A0F776E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1966-6E87-4773-83BA-9CFE679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18BA-C648-4574-98E2-61C35F8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7FD5-CD72-4B71-B7BA-347D6D43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7084-F2A3-49EA-BBBD-8C7949D6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4D1F-8359-44DE-A4E2-A07936A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079C-B2A2-4EC5-8B84-389A01B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BA1-BDD5-4ABE-993A-E7E0996B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99E6-EEEB-4844-8BA3-7541DC1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B5A0-20F2-41D2-A298-1452436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422-CBFF-44EE-B02B-F0203CC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7C59-8173-40B6-AAD9-F9600964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C378-ECEE-4B0D-8A5F-46C6941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DBA-95D4-4D2E-9C31-46DE445B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2ED-E2F2-4C67-8461-78640DF7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42B-DECE-4A7E-B97F-34AA4B1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FD8-8ADB-44C7-ADCA-68A72DE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EED-7B15-4BDC-B3CD-2E639940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913-0308-440C-B07C-6139319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240-25ED-480A-81E1-D6CA613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6094-0503-4BAF-B52D-BF92EC867E9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84280" y="6244920"/>
            <a:ext cx="437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mantic Technologies (from an old DBA’s perspecti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145-3ABB-4F59-A0F8-DD30F712B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C8C3-095C-4B06-A3F8-11538F48A18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D84D-0A7C-4197-B176-900F813BD1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mgen%20Boulder%20Inc" TargetMode="External"/><Relationship Id="rId2" Type="http://schemas.openxmlformats.org/officeDocument/2006/relationships/hyperlink" Target="file:///Synergen%20Inc" TargetMode="External"/><Relationship Id="rId3" Type="http://schemas.openxmlformats.org/officeDocument/2006/relationships/hyperlink" Target="file:///Applied%20Molecular%20Genetics%20Inc" TargetMode="External"/><Relationship Id="rId4" Type="http://schemas.openxmlformats.org/officeDocument/2006/relationships/hyperlink" Target="file:///Leptin%20agonist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acle.com/index.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w3.org/RDF/icons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w3.org/RDF/icons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w3.org/RDF/icons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w3.org/RDF/icons/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www.w3.org/RDF/icons/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www.w3.org/RDF/icons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w3.org/RDF/icons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w3.org/RDF/icons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w3.org/RDF/icons/" TargetMode="External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920" y="2712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 Phil Brook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formation Consultant, SE Data Tea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 I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i Lilly and Compan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us of Integrative Informatics is to facilitate data integration between the discovery and medical components with Eli L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methodology is to execute Proofs of Concept (POC) projects to identify, construct, and test various solutions for solving the integr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1: CATI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4: Endocrine PI Competitive 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Browser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1C1-65CB-420C-88D8-55B465C027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EAE2B-3A15-40C5-B54C-C16136E2B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- CATIE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TIE stu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Antipsychotic Trials of Interven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most comprehensive independent trial ever completed to examine existing anti-psychotic therapies for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etailed information comparing the effectiveness and side effects of five medications currently used to treat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rasi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nhances the knowledge available to guide treatment choices for people with schizoph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58B-B51B-43FB-B268-B1961BF995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4F49-2771-4259-88C6-89E11BED4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semantic integration and analysis of the CATIE data set in the context of metabolic and signal transduction pathways with receptor affinities can provide answers to specific scientific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thways are associated with response to the 5 different schizophrenia dru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se pathways compare between treatment a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eceptors are associated with response to the 5 schizophrenia dru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pathways, receptors and the drug response genes from the CATIE data set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E2F-D390-41B0-90F3-1542F75A5D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7E00F-BBA7-425E-A254-CE6971141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5942160" y="1273320"/>
            <a:ext cx="2971800" cy="4642920"/>
            <a:chOff x="5942160" y="1273320"/>
            <a:chExt cx="2971800" cy="464292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5942160" y="1273320"/>
              <a:ext cx="243864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6247080" y="1798560"/>
              <a:ext cx="220968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6018480" y="2440080"/>
              <a:ext cx="2209680" cy="85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6247080" y="2907360"/>
              <a:ext cx="2514600" cy="81072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5942160" y="3490560"/>
              <a:ext cx="2286000" cy="7635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6247080" y="3840840"/>
              <a:ext cx="2514600" cy="787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3" name="" descr=""/>
            <p:cNvPicPr/>
            <p:nvPr/>
          </p:nvPicPr>
          <p:blipFill>
            <a:blip r:embed="rId7"/>
            <a:stretch/>
          </p:blipFill>
          <p:spPr>
            <a:xfrm>
              <a:off x="6018480" y="4424760"/>
              <a:ext cx="2590920" cy="7804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6170760" y="4950000"/>
              <a:ext cx="2743200" cy="61884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5" name="" descr=""/>
            <p:cNvPicPr/>
            <p:nvPr/>
          </p:nvPicPr>
          <p:blipFill>
            <a:blip r:embed="rId9"/>
            <a:stretch/>
          </p:blipFill>
          <p:spPr>
            <a:xfrm>
              <a:off x="6018480" y="5416560"/>
              <a:ext cx="2514600" cy="49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Data Aggr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120" y="1542960"/>
            <a:ext cx="563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IE Dru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ipras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chem (for CATIE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y (Receptor Affinity Data for CA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A97-3EE0-402A-B915-2CCEC37261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06030-BBE6-4348-BC42-83FE1D8E2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35000" y="1293840"/>
            <a:ext cx="2590560" cy="2104920"/>
            <a:chOff x="135000" y="1293840"/>
            <a:chExt cx="2590560" cy="21049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668160" y="1903320"/>
              <a:ext cx="1295640" cy="93204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135000" y="2436840"/>
              <a:ext cx="1143000" cy="96192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3"/>
            <a:stretch/>
          </p:blipFill>
          <p:spPr>
            <a:xfrm>
              <a:off x="1506600" y="2513160"/>
              <a:ext cx="1218960" cy="88236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sp>
          <p:nvSpPr>
            <p:cNvPr id="343" name=""/>
            <p:cNvSpPr/>
            <p:nvPr/>
          </p:nvSpPr>
          <p:spPr>
            <a:xfrm>
              <a:off x="363600" y="1293840"/>
              <a:ext cx="19810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in Multiple Forma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lat file, Tab limited, XM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192720" y="1293840"/>
            <a:ext cx="2846520" cy="2590560"/>
            <a:chOff x="6192720" y="1293840"/>
            <a:chExt cx="2846520" cy="259056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192720" y="1674720"/>
              <a:ext cx="12956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7869240" y="1674720"/>
              <a:ext cx="117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192720" y="1293840"/>
              <a:ext cx="23623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 – Level Ont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733920" y="2400480"/>
            <a:ext cx="167616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 conversion using Je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ming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676520" y="4137120"/>
            <a:ext cx="1295280" cy="1790640"/>
            <a:chOff x="1676520" y="4137120"/>
            <a:chExt cx="1295280" cy="1790640"/>
          </a:xfrm>
        </p:grpSpPr>
        <p:sp>
          <p:nvSpPr>
            <p:cNvPr id="350" name=""/>
            <p:cNvSpPr/>
            <p:nvPr/>
          </p:nvSpPr>
          <p:spPr>
            <a:xfrm>
              <a:off x="17524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cle 11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DF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2416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6520" y="547056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83360" y="4137120"/>
            <a:ext cx="1295280" cy="1752480"/>
            <a:chOff x="6183360" y="4137120"/>
            <a:chExt cx="1295280" cy="1752480"/>
          </a:xfrm>
        </p:grpSpPr>
        <p:sp>
          <p:nvSpPr>
            <p:cNvPr id="354" name=""/>
            <p:cNvSpPr/>
            <p:nvPr/>
          </p:nvSpPr>
          <p:spPr>
            <a:xfrm>
              <a:off x="62596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egro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ve 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ple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83100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3360" y="543240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94480" y="2695680"/>
            <a:ext cx="3154320" cy="1771200"/>
            <a:chOff x="2994480" y="2695680"/>
            <a:chExt cx="3154320" cy="1771200"/>
          </a:xfrm>
        </p:grpSpPr>
        <p:grpSp>
          <p:nvGrpSpPr>
            <p:cNvPr id="358" name=""/>
            <p:cNvGrpSpPr/>
            <p:nvPr/>
          </p:nvGrpSpPr>
          <p:grpSpPr>
            <a:xfrm>
              <a:off x="3841560" y="2973240"/>
              <a:ext cx="1461600" cy="1216080"/>
              <a:chOff x="3841560" y="2973240"/>
              <a:chExt cx="1461600" cy="1216080"/>
            </a:xfrm>
          </p:grpSpPr>
          <p:sp>
            <p:nvSpPr>
              <p:cNvPr id="359" name=""/>
              <p:cNvSpPr/>
              <p:nvPr/>
            </p:nvSpPr>
            <p:spPr>
              <a:xfrm>
                <a:off x="3841560" y="2973240"/>
                <a:ext cx="1461600" cy="1216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38200" y="3269520"/>
                <a:ext cx="182520" cy="182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81920" y="3877560"/>
                <a:ext cx="182520" cy="182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16520" y="3695040"/>
                <a:ext cx="182520" cy="18216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199400" y="3573360"/>
                <a:ext cx="24336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19080" y="3079440"/>
                <a:ext cx="411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7840" y="345204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503240" y="363456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03600" y="3201120"/>
                <a:ext cx="15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2760" y="3452040"/>
                <a:ext cx="182520" cy="18216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25280" y="3573360"/>
                <a:ext cx="36540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38200" y="3877560"/>
                <a:ext cx="24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564800" y="3938040"/>
                <a:ext cx="243360" cy="6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7320" y="3816720"/>
                <a:ext cx="182520" cy="182160"/>
              </a:xfrm>
              <a:prstGeom prst="ellipse">
                <a:avLst/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4480" y="3322800"/>
                <a:ext cx="182520" cy="182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51880" y="34671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5920" y="3672360"/>
                <a:ext cx="182520" cy="1821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42760" y="3056760"/>
                <a:ext cx="182520" cy="18216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182560" y="2695680"/>
              <a:ext cx="966240" cy="1771200"/>
              <a:chOff x="5182560" y="2695680"/>
              <a:chExt cx="966240" cy="1771200"/>
            </a:xfrm>
          </p:grpSpPr>
          <p:sp>
            <p:nvSpPr>
              <p:cNvPr id="378" name=""/>
              <p:cNvSpPr/>
              <p:nvPr/>
            </p:nvSpPr>
            <p:spPr>
              <a:xfrm flipH="1" rot="20184600">
                <a:off x="531180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15400">
                <a:off x="5241240" y="3873240"/>
                <a:ext cx="777600" cy="457200"/>
              </a:xfrm>
              <a:custGeom>
                <a:avLst/>
                <a:gdLst>
                  <a:gd name="textAreaLeft" fmla="*/ 121320 w 777600"/>
                  <a:gd name="textAreaRight" fmla="*/ 680400 w 7776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994480" y="2695680"/>
              <a:ext cx="966240" cy="1771200"/>
              <a:chOff x="2994480" y="2695680"/>
              <a:chExt cx="966240" cy="1771200"/>
            </a:xfrm>
          </p:grpSpPr>
          <p:sp>
            <p:nvSpPr>
              <p:cNvPr id="381" name=""/>
              <p:cNvSpPr/>
              <p:nvPr/>
            </p:nvSpPr>
            <p:spPr>
              <a:xfrm rot="1415400">
                <a:off x="305316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rot="20184600">
                <a:off x="3123720" y="387288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608-16C6-4804-836E-FACE17ADA03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EACB1-5E72-4422-BDED-35917EC29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emantic integration can be accomplished by using R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complex data modeling can be achieved by using graph principles inherent i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ranslation of scientific questions to graph queries can be accomplished using SPARQL and SEM_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outputs can easily be generated by making slight changes in the SPARQL query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780-EF4E-4B1A-AF19-0D5572BA8D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4ECA-7760-4967-8C92-E642201C75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C4 - Endocrine PI Competitive Intelli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Intelligence (CI) is a purposeful, ethical and co-coordinated monitoring of the competitors in any industry within a specific market pla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ally gain foreknowledge of recent developments of your competitor'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alculated informed business decisions and formulate operational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Endocrine Public Information (PI) project is to provide a mechanism for actively surveying the public information for competitive intelligence on the Endocr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D37-A24B-495C-A77E-23EB4297B1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87336-277B-4EE5-A955-23EF1F549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uch a competitive intelligence effort significantly benefit from a semantic compon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Endocrine PI project significantly benefit from semantic integ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pre-existing ontologies for Company and method of action (MOA)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atural language processing (NLP) or text mining methods work for this kind of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“buried” knowledge exist within that datasets that can be discovered using inference and reas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6E6-BC67-4F74-B85F-A409D76333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EB7B-C7C8-43A4-BFAC-1980544EC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Integration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2280" y="1263600"/>
            <a:ext cx="342900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c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14360" y="3524400"/>
          <a:ext cx="3733920" cy="2365200"/>
        </p:xfrm>
        <a:graphic>
          <a:graphicData uri="http://schemas.openxmlformats.org/drawingml/2006/table">
            <a:tbl>
              <a:tblPr/>
              <a:tblGrid>
                <a:gridCol w="914400"/>
                <a:gridCol w="281952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Boulder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Molecular Genetics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tonin 2A receptor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 2  receptor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2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xisome proliferator-activated recepto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n concentrating hormone receptor 1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H receptor-1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22280" y="1568520"/>
          <a:ext cx="3429000" cy="144756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Lt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glucosidase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idase inhibitor alp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-3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 stimulator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17600" y="3219480"/>
            <a:ext cx="373356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46800" y="1263600"/>
            <a:ext cx="2895480" cy="304920"/>
          </a:xfrm>
          <a:prstGeom prst="rect">
            <a:avLst/>
          </a:prstGeom>
          <a:solidFill>
            <a:srgbClr val="cc99ff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 – Child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65880" y="1687680"/>
            <a:ext cx="2359080" cy="1942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1396" t="0" r="0" b="0"/>
          <a:stretch/>
        </p:blipFill>
        <p:spPr>
          <a:xfrm>
            <a:off x="5446800" y="3679920"/>
            <a:ext cx="3029040" cy="2028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FFD-1A55-40BF-939C-CC72F109A5D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EE86D-5603-4C58-A887-A116644F71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13320" y="1692360"/>
            <a:ext cx="6503040" cy="3786120"/>
            <a:chOff x="-13320" y="1692360"/>
            <a:chExt cx="6503040" cy="3786120"/>
          </a:xfrm>
        </p:grpSpPr>
        <p:grpSp>
          <p:nvGrpSpPr>
            <p:cNvPr id="404" name=""/>
            <p:cNvGrpSpPr/>
            <p:nvPr/>
          </p:nvGrpSpPr>
          <p:grpSpPr>
            <a:xfrm>
              <a:off x="-13320" y="2303640"/>
              <a:ext cx="765720" cy="3165480"/>
              <a:chOff x="-13320" y="2303640"/>
              <a:chExt cx="765720" cy="3165480"/>
            </a:xfrm>
          </p:grpSpPr>
          <p:sp>
            <p:nvSpPr>
              <p:cNvPr id="405" name=""/>
              <p:cNvSpPr/>
              <p:nvPr/>
            </p:nvSpPr>
            <p:spPr>
              <a:xfrm>
                <a:off x="218880" y="2303640"/>
                <a:ext cx="533520" cy="3165480"/>
              </a:xfrm>
              <a:prstGeom prst="rtTriangl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-1452960" y="3743280"/>
                <a:ext cx="3155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ase in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012680" y="1692360"/>
              <a:ext cx="1828800" cy="533520"/>
            </a:xfrm>
            <a:prstGeom prst="ellipse">
              <a:avLst/>
            </a:prstGeom>
            <a:solidFill>
              <a:srgbClr val="ff9900">
                <a:alpha val="7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Endocrine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84560" y="24922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2760" y="34066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87440" y="4616640"/>
              <a:ext cx="914400" cy="38088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819000" y="2313000"/>
              <a:ext cx="2217960" cy="739800"/>
              <a:chOff x="819000" y="2313000"/>
              <a:chExt cx="2217960" cy="739800"/>
            </a:xfrm>
          </p:grpSpPr>
          <p:sp>
            <p:nvSpPr>
              <p:cNvPr id="412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yer Cor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pamide receptor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GLT inhib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15760" y="3232080"/>
              <a:ext cx="2217960" cy="744480"/>
              <a:chOff x="815760" y="3232080"/>
              <a:chExt cx="2217960" cy="744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15760" y="3232080"/>
                <a:ext cx="2217960" cy="74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i Lil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T transcription factor stimula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pha-glucosidase inhibito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760" y="3232080"/>
                <a:ext cx="2217960" cy="739800"/>
              </a:xfrm>
              <a:prstGeom prst="rect">
                <a:avLst/>
              </a:prstGeom>
              <a:solidFill>
                <a:srgbClr val="ffff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19000" y="4156200"/>
              <a:ext cx="2225520" cy="1322280"/>
              <a:chOff x="819000" y="4156200"/>
              <a:chExt cx="2225520" cy="1322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oxisome  proliferator-activat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eptor delta ant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 Hydroxytryptamine  2C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pioid kappa receptor ant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rotonin 1B receptor  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0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819000" y="3976920"/>
              <a:ext cx="22208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760" y="3052800"/>
              <a:ext cx="222120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62400" y="1692360"/>
              <a:ext cx="2227320" cy="3776400"/>
              <a:chOff x="4262400" y="1692360"/>
              <a:chExt cx="2227320" cy="377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4460760" y="1692360"/>
                <a:ext cx="1828800" cy="533520"/>
              </a:xfrm>
              <a:prstGeom prst="ellipse">
                <a:avLst/>
              </a:prstGeom>
              <a:solidFill>
                <a:srgbClr val="ff9900">
                  <a:alpha val="76000"/>
                </a:srgbClr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rms fro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mson – Phar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265640" y="2313000"/>
                <a:ext cx="2217600" cy="739800"/>
                <a:chOff x="4265640" y="2313000"/>
                <a:chExt cx="2217600" cy="739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ffffff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yer Cor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pamide receptor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GLT inhibi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008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262400" y="4146480"/>
                <a:ext cx="2227320" cy="1322280"/>
                <a:chOff x="4262400" y="4146480"/>
                <a:chExt cx="2227320" cy="1322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62400" y="4146480"/>
                  <a:ext cx="2225880" cy="132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PAR delta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HT 1c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appa opioid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-HT 1d beta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264200" y="4146480"/>
                  <a:ext cx="2225520" cy="1322280"/>
                </a:xfrm>
                <a:prstGeom prst="rect">
                  <a:avLst/>
                </a:prstGeom>
                <a:solidFill>
                  <a:srgbClr val="ff0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4262400" y="304344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62400" y="396720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4265640" y="3225960"/>
                <a:ext cx="2217600" cy="744480"/>
                <a:chOff x="4265640" y="3225960"/>
                <a:chExt cx="2217600" cy="74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265640" y="3225960"/>
                  <a:ext cx="2217600" cy="74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li Lilly &amp; Co Lt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AT stimu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idase inhibitor-alph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265640" y="3225960"/>
                  <a:ext cx="2217600" cy="739440"/>
                </a:xfrm>
                <a:prstGeom prst="rect">
                  <a:avLst/>
                </a:prstGeom>
                <a:solidFill>
                  <a:srgbClr val="ffff00">
                    <a:alpha val="2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6597720" y="2697120"/>
            <a:ext cx="25462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P Method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zzy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ing Stop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-based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NLP and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DE9-62AF-4CE2-8B68-13E506026E8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69BF5-2085-4DB3-B1B3-958A56EB6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ve Infor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D32-F26B-4F88-B556-399E9FDE06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1E918-80C4-442B-B40B-5624CC25AA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84480" y="4516560"/>
            <a:ext cx="825480" cy="447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9400" y="2138400"/>
            <a:ext cx="743040" cy="447480"/>
          </a:xfrm>
          <a:prstGeom prst="ellipse">
            <a:avLst/>
          </a:prstGeom>
          <a:solidFill>
            <a:srgbClr val="8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7243920" y="4603680"/>
            <a:ext cx="1090440" cy="319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 Bould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/>
          </p:cNvPr>
          <p:cNvSpPr/>
          <p:nvPr/>
        </p:nvSpPr>
        <p:spPr>
          <a:xfrm>
            <a:off x="7388280" y="5380200"/>
            <a:ext cx="9079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nergen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/>
          </p:cNvPr>
          <p:cNvSpPr/>
          <p:nvPr/>
        </p:nvSpPr>
        <p:spPr>
          <a:xfrm>
            <a:off x="7211880" y="3706920"/>
            <a:ext cx="1322640" cy="384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ed Molecul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tics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66920" y="5572080"/>
            <a:ext cx="825480" cy="384120"/>
          </a:xfrm>
          <a:prstGeom prst="ellipse">
            <a:avLst/>
          </a:prstGeom>
          <a:solidFill>
            <a:srgbClr val="3399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gen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15120" y="5635800"/>
            <a:ext cx="743040" cy="384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vidia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54440" y="2176560"/>
            <a:ext cx="2146320" cy="320400"/>
          </a:xfrm>
          <a:prstGeom prst="rect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 concentrating horm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1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05560" y="2692440"/>
            <a:ext cx="1073160" cy="384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receptor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4440" y="1281240"/>
            <a:ext cx="21463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-concentrating hormo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827600" y="2496600"/>
            <a:ext cx="0" cy="768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27600" y="3714840"/>
            <a:ext cx="0" cy="9334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00760" y="178272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 rot="2620200">
            <a:off x="5899680" y="243288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/>
          </p:cNvPr>
          <p:cNvSpPr/>
          <p:nvPr/>
        </p:nvSpPr>
        <p:spPr>
          <a:xfrm>
            <a:off x="7378560" y="1550880"/>
            <a:ext cx="908280" cy="4478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PR-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40160" y="3906720"/>
            <a:ext cx="1982880" cy="8319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624"/>
                </a:moveTo>
                <a:cubicBezTo>
                  <a:pt x="96" y="484"/>
                  <a:pt x="192" y="344"/>
                  <a:pt x="384" y="240"/>
                </a:cubicBezTo>
                <a:cubicBezTo>
                  <a:pt x="576" y="136"/>
                  <a:pt x="1024" y="4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32240" y="4749840"/>
            <a:ext cx="2208240" cy="807840"/>
          </a:xfrm>
          <a:custGeom>
            <a:avLst/>
            <a:gdLst/>
            <a:ahLst/>
            <a:rect l="l" t="t" r="r" b="b"/>
            <a:pathLst>
              <a:path w="1248" h="576">
                <a:moveTo>
                  <a:pt x="0" y="0"/>
                </a:moveTo>
                <a:cubicBezTo>
                  <a:pt x="184" y="168"/>
                  <a:pt x="368" y="336"/>
                  <a:pt x="576" y="432"/>
                </a:cubicBezTo>
                <a:cubicBezTo>
                  <a:pt x="784" y="528"/>
                  <a:pt x="1136" y="552"/>
                  <a:pt x="1248" y="576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22880" y="4745160"/>
            <a:ext cx="198288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cubicBezTo>
                  <a:pt x="0" y="0"/>
                  <a:pt x="576" y="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970360" y="2370240"/>
            <a:ext cx="784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97000" y="4738680"/>
            <a:ext cx="1500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2689200"/>
            <a:ext cx="825480" cy="44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84480" y="3970440"/>
            <a:ext cx="825480" cy="449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84480" y="3330720"/>
            <a:ext cx="825480" cy="44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9960" y="2946240"/>
            <a:ext cx="1487520" cy="3844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864" y="240"/>
                </a:moveTo>
                <a:cubicBezTo>
                  <a:pt x="816" y="164"/>
                  <a:pt x="768" y="88"/>
                  <a:pt x="624" y="48"/>
                </a:cubicBezTo>
                <a:cubicBezTo>
                  <a:pt x="480" y="8"/>
                  <a:pt x="240" y="4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09960" y="3522600"/>
            <a:ext cx="1487520" cy="1800"/>
          </a:xfrm>
          <a:custGeom>
            <a:avLst/>
            <a:gdLst/>
            <a:ahLst/>
            <a:rect l="l" t="t" r="r" b="b"/>
            <a:pathLst>
              <a:path w="864" h="1">
                <a:moveTo>
                  <a:pt x="864" y="0"/>
                </a:moveTo>
                <a:cubicBezTo>
                  <a:pt x="500" y="0"/>
                  <a:pt x="136" y="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4680" y="3274920"/>
            <a:ext cx="820800" cy="43812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9960" y="3651120"/>
            <a:ext cx="1569960" cy="533520"/>
          </a:xfrm>
          <a:custGeom>
            <a:avLst/>
            <a:gdLst/>
            <a:ahLst/>
            <a:rect l="l" t="t" r="r" b="b"/>
            <a:pathLst>
              <a:path w="912" h="400">
                <a:moveTo>
                  <a:pt x="912" y="0"/>
                </a:moveTo>
                <a:cubicBezTo>
                  <a:pt x="892" y="136"/>
                  <a:pt x="872" y="272"/>
                  <a:pt x="720" y="336"/>
                </a:cubicBezTo>
                <a:cubicBezTo>
                  <a:pt x="568" y="400"/>
                  <a:pt x="284" y="392"/>
                  <a:pt x="0" y="38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040" y="2906640"/>
            <a:ext cx="825480" cy="447840"/>
          </a:xfrm>
          <a:prstGeom prst="ellipse">
            <a:avLst/>
          </a:prstGeom>
          <a:solidFill>
            <a:srgbClr val="00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8560" y="3652920"/>
            <a:ext cx="825480" cy="44928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1440" y="2881440"/>
            <a:ext cx="743040" cy="2570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cubicBezTo>
                  <a:pt x="348" y="8"/>
                  <a:pt x="264" y="16"/>
                  <a:pt x="192" y="48"/>
                </a:cubicBezTo>
                <a:cubicBezTo>
                  <a:pt x="120" y="80"/>
                  <a:pt x="32" y="168"/>
                  <a:pt x="0" y="19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76200" y="4035600"/>
            <a:ext cx="908280" cy="22356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04" y="156"/>
                  <a:pt x="280" y="168"/>
                  <a:pt x="192" y="144"/>
                </a:cubicBezTo>
                <a:cubicBezTo>
                  <a:pt x="104" y="120"/>
                  <a:pt x="52" y="6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4533120" y="391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4624920" y="2802960"/>
            <a:ext cx="83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20538600">
            <a:off x="5720040" y="38682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35520" y="454644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956400">
            <a:off x="5997240" y="51688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721600">
            <a:off x="3048120" y="5573520"/>
            <a:ext cx="16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37040" y="4930920"/>
            <a:ext cx="1378080" cy="896760"/>
          </a:xfrm>
          <a:custGeom>
            <a:avLst/>
            <a:gdLst/>
            <a:ahLst/>
            <a:rect l="l" t="t" r="r" b="b"/>
            <a:pathLst>
              <a:path w="800" h="672">
                <a:moveTo>
                  <a:pt x="32" y="0"/>
                </a:moveTo>
                <a:cubicBezTo>
                  <a:pt x="16" y="88"/>
                  <a:pt x="0" y="176"/>
                  <a:pt x="128" y="288"/>
                </a:cubicBezTo>
                <a:cubicBezTo>
                  <a:pt x="256" y="400"/>
                  <a:pt x="528" y="536"/>
                  <a:pt x="800" y="67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369200">
            <a:off x="4808880" y="555120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92400" y="4781520"/>
            <a:ext cx="1720800" cy="982800"/>
          </a:xfrm>
          <a:custGeom>
            <a:avLst/>
            <a:gdLst/>
            <a:ahLst/>
            <a:rect l="l" t="t" r="r" b="b"/>
            <a:pathLst>
              <a:path w="1000" h="736">
                <a:moveTo>
                  <a:pt x="960" y="112"/>
                </a:moveTo>
                <a:cubicBezTo>
                  <a:pt x="980" y="56"/>
                  <a:pt x="1000" y="0"/>
                  <a:pt x="960" y="64"/>
                </a:cubicBezTo>
                <a:cubicBezTo>
                  <a:pt x="920" y="128"/>
                  <a:pt x="880" y="384"/>
                  <a:pt x="720" y="496"/>
                </a:cubicBezTo>
                <a:cubicBezTo>
                  <a:pt x="560" y="608"/>
                  <a:pt x="120" y="696"/>
                  <a:pt x="0" y="73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14680" y="4648320"/>
            <a:ext cx="804960" cy="28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14880" y="45244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62280" y="217800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0" y="1665360"/>
            <a:ext cx="0" cy="512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81520" y="1793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Cla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8600">
            <a:off x="5961240" y="16282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57200">
            <a:off x="6225480" y="26236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9815000">
            <a:off x="1162440" y="2687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76200" y="3992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74840" y="3325680"/>
            <a:ext cx="9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28960" y="3946680"/>
            <a:ext cx="14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Therapeutic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1720" y="27702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8520" y="-25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Knowledg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7A6-A3F2-47D3-892F-A11AB6B1F01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41319-1AFE-478B-8EB1-6B42C3787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65040" y="10810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1352520"/>
            <a:ext cx="8763120" cy="333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n Company Name:  Applied Molecular Genetics Inc         Get MOA’s that this company is working 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62120" y="2114640"/>
            <a:ext cx="6718320" cy="1627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403880" y="2671920"/>
            <a:ext cx="3047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4387680"/>
            <a:ext cx="434340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1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out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" y="4761000"/>
            <a:ext cx="1752840" cy="2311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’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4375080"/>
            <a:ext cx="419076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2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4724280" y="4768920"/>
          <a:ext cx="3429000" cy="907920"/>
        </p:xfrm>
        <a:graphic>
          <a:graphicData uri="http://schemas.openxmlformats.org/drawingml/2006/table">
            <a:tbl>
              <a:tblPr/>
              <a:tblGrid>
                <a:gridCol w="1327320"/>
                <a:gridCol w="2101680"/>
              </a:tblGrid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in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uti related protein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eptide Y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ocortin MC4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8229600" y="4886280"/>
            <a:ext cx="685800" cy="457200"/>
          </a:xfrm>
          <a:prstGeom prst="ellipse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C4 Inferenc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C28-D901-4E5C-A99B-CF87B4778EA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D0D39-2BCF-425E-A284-B36C14FBA5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Integration (instance mapping using NLP) coupled with RDF data model was successful in answering questions in Competitive 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provide a powerful framework in providing dictionaries and taxonomical relations that help to reason and inference the data for knowledg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uration is a tedious, error prone and labor intensive-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mi-automated intelligent computer-based solution that utilizes Ontologies, Semantic Integration  and NLP  could drastically reduce manual curation process and maintain high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15F-BFD0-4121-9552-9C91A43BA2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5C234-7748-46CE-B92A-6FE551D28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584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experiment metadata from a diverse set of LSCDD relational databases into an Oracle Semantic Technologies repository for LSCDD scientific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unified vocabulary for LSCDD scientific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a complex architecture and extended develop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benefits in the near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cess metadata to improv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type of questions that ontology shoul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table semantic technologies, do not employ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emantic and relational databases to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rowser, visualization, and query acces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7E4-B7EE-4425-B84F-D2A525EB0C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DE543-A597-4CDC-84F9-4E7551DF4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6320" y="1219320"/>
          <a:ext cx="899136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9913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8F8-029D-4D42-BD50-6D6AD5C097E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F37BC-01FA-4C50-9176-67766EF60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600200"/>
            <a:ext cx="4343400" cy="1447920"/>
          </a:xfrm>
          <a:prstGeom prst="roundRect">
            <a:avLst>
              <a:gd name="adj" fmla="val 16667"/>
            </a:avLst>
          </a:prstGeom>
          <a:solidFill>
            <a:srgbClr val="99ccff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3048120"/>
            <a:ext cx="4419720" cy="1447560"/>
          </a:xfrm>
          <a:prstGeom prst="roundRect">
            <a:avLst>
              <a:gd name="adj" fmla="val 16667"/>
            </a:avLst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4495680"/>
            <a:ext cx="4419720" cy="144792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3352680"/>
            <a:ext cx="121896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Experi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gi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Illu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C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352680"/>
            <a:ext cx="121932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86400" y="2590920"/>
            <a:ext cx="213372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1148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57800" y="2590560"/>
            <a:ext cx="2362320" cy="2666880"/>
            <a:chOff x="5257800" y="2590560"/>
            <a:chExt cx="2362320" cy="2666880"/>
          </a:xfrm>
        </p:grpSpPr>
        <p:grpSp>
          <p:nvGrpSpPr>
            <p:cNvPr id="537" name=""/>
            <p:cNvGrpSpPr/>
            <p:nvPr/>
          </p:nvGrpSpPr>
          <p:grpSpPr>
            <a:xfrm>
              <a:off x="5257800" y="2590560"/>
              <a:ext cx="2362320" cy="2666880"/>
              <a:chOff x="5257800" y="2590560"/>
              <a:chExt cx="2362320" cy="266688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257800" y="3657240"/>
                <a:ext cx="2362320" cy="1600200"/>
                <a:chOff x="5257800" y="3657240"/>
                <a:chExt cx="2362320" cy="160020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5257800" y="3657240"/>
                  <a:ext cx="1371600" cy="1523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6019920" y="3657240"/>
                  <a:ext cx="60948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629040" y="3657240"/>
                  <a:ext cx="3049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629400" y="3657240"/>
                  <a:ext cx="9907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6629400" y="2590560"/>
                <a:ext cx="9907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96240" y="3733920"/>
                <a:ext cx="3808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705360" y="3733920"/>
                <a:ext cx="304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095880" y="3733920"/>
              <a:ext cx="3812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860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queries on metadata define item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data and raw data are then aggregated to provide additional context for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9A3-A2D8-49DE-805A-00071DF1B7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959A-CD4C-48AC-8A0C-BE971069BB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480" y="1542600"/>
            <a:ext cx="8229600" cy="42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Ontology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R Map (Database to RDF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 development in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ata sourc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Data : Affymetrix, Illumina, Agi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G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Ai Screen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 Ontology (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ubject Headings (Me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~30 million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63B-AEB3-4298-AD21-8166A0AD8E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7B62A-8329-4B95-AE64-AA0899584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mplementation of the Metadata Repository, it is now possible for users to ask questions such as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ll the interactions for methylases that are involved in Colon cancer. For all these genes, get the expression and aCGH values for all LSCDD colon cance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ell lines in which RNAi data has been generated using Dharmaco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the antibodies that have been used to assess the AKT1 pathway activity in MC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the experiments that were done using my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amples which are grade III colorectal cancer. For these sample, retrieve the expression, mutation and aCG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0D2-00F2-48EE-95E3-885F0A1CB8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1D822-3B32-4B54-A63E-162F4341B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sk more complicated scientific qu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sults will be integrated with raw data in relational data sources to provide the user with a single platform for detailed ana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ser input, the ontology will evolve to include additional entities and attributes as well as links to other public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478-3839-4590-B7F2-9428D8A9F7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458D0-7F3A-4190-B0F5-65D46CCF7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covery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pen Innovation Cen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-profit organization led by Dr. Susie Stephens and focused on enabling pre-competitive collaborations across the pharmaceutical industry with the following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health and well-being by enabling pharmaceutical companies to make better decisions during drug discovery an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an independent non-profit center for knowledge gathering, representation and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n ecosystem of organizations that adopt the same data standards and terminology thereby simplifying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risk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ring together leading technologists to enable rapid sharing of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benefit of organizations around the world in biopharmaceuticals, healthcare, payers, information technology, and aca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usie Step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5D5-4E63-45EE-AFCE-C45B6834BD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6550E-3FFD-4C7B-9562-66F8C77554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 in W3C’s HCL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 Access to Relational Databases - Chris Bizer, Eric Prud'homm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ility testing of relational to RDF mapping approac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Semantic Web Authoring - David K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ing the scalability and robustness of th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xhibi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otluc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ools (i.e. integrating the tools together, supporting more file types, etc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st-Driven Semantic Integration of Knowledge in Alzheimer's Disease - Tim Clark, June Kinosh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n integrated knowledge infrastructure for the neuro-medical research community, pairing rich digital semantic context with the ever-growing digital scientific content on th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ance Collection and Management - Carole Goble, Beth Pl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 metadata taxonomy for global data at Lilly which enables the rapid integration of data and mining/analysis algorithms into dataflows which support clinical and discovery dec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051-C8F2-41F3-B88E-1F131CB076D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20221-3DDD-4E52-A6A0-1044DBEA32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ation needs (and issues) abound at Li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 Lilly and Company is seeing tangible benefits in multiple projects from semantic integration as a means for helping to solve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nd has been to build “semantic warehouses” due to feder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far, data volumes are low to 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for alignment need to be identified and aligned as necessary (both internally and exter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searching for the “best” methods for accessing semantic data holistically within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ance is a challenge but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are improving, but more are needed (especially in the area of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 operationalize semant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5C8-8533-43BE-9D9B-896C5A7C03A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4C45-22F1-486F-826A-45FE469389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3960" y="1357200"/>
            <a:ext cx="376884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yn Adams-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gar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khi B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Consta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D Cra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esh Kumar Guzuva Desi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st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Catherine Dow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Far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re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a Chandra Gud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Ko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48200" y="1357200"/>
            <a:ext cx="376092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ulu 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Laj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ice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tha N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 Nis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 Schers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n Spil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Su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k Toman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old Y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jing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545-1AD5-47FC-9ABF-7EFC70A305BA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737CD-8E12-4F38-BEE9-24E42357B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1311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Master Data throughout the pharmaceutical discovery process to enable information sharing/integration for scientif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key relationships between Master Da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bility to integrate disparate data sets quicker than the normal warehouse paradigm typically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re-usable and sustainable semant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for user-driven, manual curation of key data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ore competencies in Semantic Web technologies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Semantic Web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E5-DC01-4A02-91E4-29045E9A87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8A5A0-22BB-48AB-91BD-9816F9D82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5696" r="0" b="775"/>
          <a:stretch/>
        </p:blipFill>
        <p:spPr>
          <a:xfrm>
            <a:off x="0" y="55080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20" y="0"/>
            <a:ext cx="788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Metadata: On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4200" y="3703680"/>
            <a:ext cx="119160" cy="9507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872480" y="4714560"/>
            <a:ext cx="79056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05920" y="4147920"/>
            <a:ext cx="67608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91440" y="3686040"/>
            <a:ext cx="395280" cy="4143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39080" y="3633480"/>
            <a:ext cx="37152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86600" y="2776680"/>
            <a:ext cx="128880" cy="7952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10480" y="2690640"/>
            <a:ext cx="514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05720" y="1981080"/>
            <a:ext cx="433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9000" y="2028960"/>
            <a:ext cx="119160" cy="6238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738560" y="3686040"/>
            <a:ext cx="328680" cy="3049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53360" y="4038120"/>
            <a:ext cx="623880" cy="97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2960" y="3719520"/>
            <a:ext cx="40032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68800" y="3160440"/>
            <a:ext cx="509760" cy="4618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7560" y="3129120"/>
            <a:ext cx="73836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19520" y="3214440"/>
            <a:ext cx="52848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9480" y="3267000"/>
            <a:ext cx="738360" cy="362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3840" y="3422520"/>
            <a:ext cx="60984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21360" y="3470400"/>
            <a:ext cx="46188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3880" y="3733920"/>
            <a:ext cx="285840" cy="2667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91120" y="4052880"/>
            <a:ext cx="5954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00480" y="3981600"/>
            <a:ext cx="5000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29160" y="3738600"/>
            <a:ext cx="342720" cy="200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7320" y="3700440"/>
            <a:ext cx="40968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81680" y="2790720"/>
            <a:ext cx="62388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15040" y="2847960"/>
            <a:ext cx="333360" cy="7570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43440" y="3981240"/>
            <a:ext cx="538200" cy="46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19640" y="3733920"/>
            <a:ext cx="34776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19760" y="3333240"/>
            <a:ext cx="538200" cy="2955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77240" y="3266640"/>
            <a:ext cx="537840" cy="97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2440" y="3281400"/>
            <a:ext cx="647640" cy="338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62400" y="3690720"/>
            <a:ext cx="20484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67240" y="3686040"/>
            <a:ext cx="990720" cy="144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28680" y="4642920"/>
            <a:ext cx="4287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71520" y="4714920"/>
            <a:ext cx="161640" cy="576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2280" y="5334120"/>
            <a:ext cx="590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6840" y="5396040"/>
            <a:ext cx="5040" cy="3236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4480" y="5772240"/>
            <a:ext cx="5144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4440" y="6477120"/>
            <a:ext cx="54756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05080" y="6586200"/>
            <a:ext cx="7142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6781680"/>
            <a:ext cx="54288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4560" y="5824440"/>
            <a:ext cx="57240" cy="90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19360" y="5834160"/>
            <a:ext cx="404640" cy="590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38840"/>
            <a:ext cx="438120" cy="704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37920" y="4695840"/>
            <a:ext cx="747720" cy="762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19240" y="5514840"/>
            <a:ext cx="73332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52440" y="5567400"/>
            <a:ext cx="214560" cy="461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9720" y="6086520"/>
            <a:ext cx="65232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3680" y="6143760"/>
            <a:ext cx="361800" cy="357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43080" y="6543720"/>
            <a:ext cx="8618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37760" y="4700520"/>
            <a:ext cx="80964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5014800"/>
            <a:ext cx="76176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" y="5062680"/>
            <a:ext cx="419040" cy="45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567400"/>
            <a:ext cx="6667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3080" y="5624640"/>
            <a:ext cx="266400" cy="547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-360" y="6234120"/>
            <a:ext cx="785880" cy="9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14360" y="4672080"/>
            <a:ext cx="814320" cy="284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4723920"/>
            <a:ext cx="7855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7560" y="4452480"/>
            <a:ext cx="6289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04640" y="4176720"/>
            <a:ext cx="6620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520" y="3871440"/>
            <a:ext cx="59508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7040" y="4486320"/>
            <a:ext cx="995400" cy="1382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4243320"/>
            <a:ext cx="1195560" cy="36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7160" y="3919680"/>
            <a:ext cx="1366920" cy="680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00400" y="3242880"/>
            <a:ext cx="47520" cy="1343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90720" y="3176280"/>
            <a:ext cx="833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38560" y="2786040"/>
            <a:ext cx="190440" cy="333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9840" y="1476360"/>
            <a:ext cx="45720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7680" y="1523880"/>
            <a:ext cx="1019160" cy="2095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48040" y="1790280"/>
            <a:ext cx="667080" cy="97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3240" y="1533600"/>
            <a:ext cx="262080" cy="3855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05120" y="1962000"/>
            <a:ext cx="79524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9080" y="2014560"/>
            <a:ext cx="528480" cy="6382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71840" y="2252520"/>
            <a:ext cx="0" cy="409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28840" y="2719440"/>
            <a:ext cx="4856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95360" y="2200320"/>
            <a:ext cx="56700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9160" y="1528920"/>
            <a:ext cx="685800" cy="4474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9120" y="2019240"/>
            <a:ext cx="72396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85880" y="909360"/>
            <a:ext cx="58572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040" y="976320"/>
            <a:ext cx="409320" cy="4334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00360" y="1023840"/>
            <a:ext cx="419040" cy="3952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76680" y="976320"/>
            <a:ext cx="8143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81560" y="804600"/>
            <a:ext cx="485640" cy="114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7840" y="752400"/>
            <a:ext cx="480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53200" y="690480"/>
            <a:ext cx="442800" cy="52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81600" y="666360"/>
            <a:ext cx="70488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2457360"/>
            <a:ext cx="414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4840" y="2452680"/>
            <a:ext cx="36216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1960" y="2448000"/>
            <a:ext cx="54288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1461960"/>
            <a:ext cx="62856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0120" y="1838160"/>
            <a:ext cx="75708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890720"/>
            <a:ext cx="576360" cy="52380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6280" y="1509840"/>
            <a:ext cx="290520" cy="90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09640" y="1909800"/>
            <a:ext cx="262080" cy="495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1857240"/>
            <a:ext cx="55224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00240" y="1514520"/>
            <a:ext cx="357120" cy="2858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36440" y="3710160"/>
            <a:ext cx="368280" cy="876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63560" y="3652560"/>
            <a:ext cx="49536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82640" y="2535120"/>
            <a:ext cx="222480" cy="1067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153280" y="2808360"/>
            <a:ext cx="381240" cy="774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337600" y="2757240"/>
            <a:ext cx="46980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559720" y="2356920"/>
            <a:ext cx="31680" cy="343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331120" y="2306520"/>
            <a:ext cx="52704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585280" y="1690200"/>
            <a:ext cx="6120" cy="559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23120" y="1620720"/>
            <a:ext cx="73656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78240" y="3992400"/>
            <a:ext cx="76500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1920" y="3598560"/>
            <a:ext cx="323640" cy="3459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08520" y="3557520"/>
            <a:ext cx="56808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6480" y="3602160"/>
            <a:ext cx="355680" cy="666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00520" y="3569760"/>
            <a:ext cx="307800" cy="3589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05280" y="3487320"/>
            <a:ext cx="565200" cy="3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48160"/>
            <a:ext cx="355680" cy="698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056120"/>
            <a:ext cx="285840" cy="2952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40040" y="4405320"/>
            <a:ext cx="822600" cy="32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67440" y="3619440"/>
            <a:ext cx="20484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72280" y="3614760"/>
            <a:ext cx="99036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3624120"/>
            <a:ext cx="40968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81960" y="3281400"/>
            <a:ext cx="537840" cy="2952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67520" y="3191040"/>
            <a:ext cx="53820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233880"/>
            <a:ext cx="647640" cy="338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4643280"/>
            <a:ext cx="505080" cy="5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67200" y="4653000"/>
            <a:ext cx="63792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14840" y="4695840"/>
            <a:ext cx="542880" cy="90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57720" y="4800240"/>
            <a:ext cx="571320" cy="46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95760" y="4323960"/>
            <a:ext cx="333360" cy="423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0" y="4257720"/>
            <a:ext cx="49032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971600" y="3747960"/>
            <a:ext cx="4680" cy="462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70960" y="6207120"/>
            <a:ext cx="1147680" cy="606600"/>
            <a:chOff x="7770960" y="6207120"/>
            <a:chExt cx="1147680" cy="606600"/>
          </a:xfrm>
        </p:grpSpPr>
        <p:sp>
          <p:nvSpPr>
            <p:cNvPr id="221" name=""/>
            <p:cNvSpPr/>
            <p:nvPr/>
          </p:nvSpPr>
          <p:spPr>
            <a:xfrm>
              <a:off x="7780320" y="6207120"/>
              <a:ext cx="547920" cy="168120"/>
            </a:xfrm>
            <a:prstGeom prst="rect">
              <a:avLst/>
            </a:prstGeom>
            <a:solidFill>
              <a:srgbClr val="3366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0320" y="6426360"/>
              <a:ext cx="547920" cy="168120"/>
            </a:xfrm>
            <a:prstGeom prst="rect">
              <a:avLst/>
            </a:prstGeom>
            <a:solidFill>
              <a:srgbClr val="660066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FD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0960" y="6645240"/>
              <a:ext cx="547560" cy="168480"/>
            </a:xfrm>
            <a:prstGeom prst="rect">
              <a:avLst/>
            </a:prstGeom>
            <a:solidFill>
              <a:srgbClr val="00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CB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71080" y="6426360"/>
              <a:ext cx="547560" cy="168120"/>
            </a:xfrm>
            <a:prstGeom prst="rect">
              <a:avLst/>
            </a:prstGeom>
            <a:solidFill>
              <a:srgbClr val="66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71080" y="6645240"/>
              <a:ext cx="547560" cy="168480"/>
            </a:xfrm>
            <a:prstGeom prst="rect">
              <a:avLst/>
            </a:prstGeom>
            <a:solidFill>
              <a:srgbClr val="ff00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ual Cur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71080" y="6207120"/>
              <a:ext cx="547560" cy="1681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gac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82960" y="3649680"/>
            <a:ext cx="40032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0960" y="3352680"/>
            <a:ext cx="609480" cy="50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052800"/>
            <a:ext cx="73836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995720" y="3132000"/>
            <a:ext cx="509760" cy="4622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086440" y="3413160"/>
            <a:ext cx="461880" cy="19512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0560" y="809640"/>
            <a:ext cx="42876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040" y="1123920"/>
            <a:ext cx="642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8760" y="1467000"/>
            <a:ext cx="576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05120" y="1471320"/>
            <a:ext cx="5047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772080" y="1476000"/>
            <a:ext cx="3283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095360" y="1476360"/>
            <a:ext cx="5907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5F9-9AF1-48B8-9916-0A8B6415411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21C9-71B8-400F-BE81-8430381B5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55600" y="1254240"/>
            <a:ext cx="6832440" cy="4670280"/>
            <a:chOff x="1155600" y="1254240"/>
            <a:chExt cx="6832440" cy="4670280"/>
          </a:xfrm>
        </p:grpSpPr>
        <p:sp>
          <p:nvSpPr>
            <p:cNvPr id="240" name=""/>
            <p:cNvSpPr/>
            <p:nvPr/>
          </p:nvSpPr>
          <p:spPr>
            <a:xfrm>
              <a:off x="1734840" y="305424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2240" y="2120760"/>
              <a:ext cx="5486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4840" y="501012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722240" y="1327320"/>
              <a:ext cx="4867200" cy="687240"/>
              <a:chOff x="1722240" y="1327320"/>
              <a:chExt cx="4867200" cy="6872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22240" y="1327320"/>
                <a:ext cx="486720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bbe0e3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3336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076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822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644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757160" y="2347920"/>
              <a:ext cx="5143320" cy="479520"/>
              <a:chOff x="1757160" y="2347920"/>
              <a:chExt cx="5143320" cy="47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1757160" y="2347920"/>
                <a:ext cx="4114800" cy="47952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A Layer/Enterprise Service Bu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WebServices, Visualizers, DataAccess Component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28920" y="2416320"/>
                <a:ext cx="871560" cy="308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thent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161720" y="2155680"/>
              <a:ext cx="411120" cy="8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55600" y="3089160"/>
              <a:ext cx="411120" cy="1920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55600" y="1254240"/>
              <a:ext cx="411120" cy="833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758600" y="3139920"/>
              <a:ext cx="4799160" cy="1746360"/>
              <a:chOff x="1758600" y="3139920"/>
              <a:chExt cx="4799160" cy="1746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758600" y="3603240"/>
                <a:ext cx="4799160" cy="10400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" descr="Oracle, The World's Largest Enterprise Software Company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587400" y="4732200"/>
                <a:ext cx="1140120" cy="15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3378600" y="3139920"/>
                <a:ext cx="1898280" cy="409680"/>
                <a:chOff x="3378600" y="3139920"/>
                <a:chExt cx="1898280" cy="4096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378600" y="3220920"/>
                  <a:ext cx="1898280" cy="276480"/>
                  <a:chOff x="3378600" y="3220920"/>
                  <a:chExt cx="1898280" cy="276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378600" y="3220920"/>
                    <a:ext cx="487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475880" y="3220920"/>
                    <a:ext cx="8010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PAR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877920" y="3139920"/>
                  <a:ext cx="557280" cy="409680"/>
                  <a:chOff x="3877920" y="3139920"/>
                  <a:chExt cx="557280" cy="4096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87792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42260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1844640" y="3987720"/>
                <a:ext cx="501480" cy="529920"/>
                <a:chOff x="1844640" y="3987720"/>
                <a:chExt cx="501480" cy="529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844640" y="3987720"/>
                  <a:ext cx="501480" cy="529920"/>
                </a:xfrm>
                <a:prstGeom prst="rect">
                  <a:avLst/>
                </a:prstGeom>
                <a:solidFill>
                  <a:srgbClr val="ff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" descr="rdf icons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04840" y="429084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8" name=""/>
              <p:cNvGrpSpPr/>
              <p:nvPr/>
            </p:nvGrpSpPr>
            <p:grpSpPr>
              <a:xfrm>
                <a:off x="2393640" y="3987720"/>
                <a:ext cx="501480" cy="529920"/>
                <a:chOff x="2393640" y="3987720"/>
                <a:chExt cx="501480" cy="5299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93640" y="3987720"/>
                  <a:ext cx="501480" cy="529920"/>
                </a:xfrm>
                <a:prstGeom prst="rect">
                  <a:avLst/>
                </a:prstGeom>
                <a:solidFill>
                  <a:srgbClr val="99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" descr="rdf icons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3840" y="429228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2944440" y="3987720"/>
                <a:ext cx="501840" cy="529920"/>
                <a:chOff x="2944440" y="3987720"/>
                <a:chExt cx="501840" cy="52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44440" y="3987720"/>
                  <a:ext cx="501840" cy="529920"/>
                </a:xfrm>
                <a:prstGeom prst="rect">
                  <a:avLst/>
                </a:prstGeom>
                <a:solidFill>
                  <a:srgbClr val="ff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3" name="" descr="rdf icons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05000" y="4292280"/>
                  <a:ext cx="18072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4" name=""/>
              <p:cNvGrpSpPr/>
              <p:nvPr/>
            </p:nvGrpSpPr>
            <p:grpSpPr>
              <a:xfrm>
                <a:off x="3495600" y="3987720"/>
                <a:ext cx="501480" cy="529920"/>
                <a:chOff x="3495600" y="3987720"/>
                <a:chExt cx="501480" cy="52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95600" y="3987720"/>
                  <a:ext cx="501480" cy="529920"/>
                </a:xfrm>
                <a:prstGeom prst="rect">
                  <a:avLst/>
                </a:prstGeom>
                <a:solidFill>
                  <a:srgbClr val="ff9933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" descr="rdf icons">
                  <a:hlinkClick r:id="rId9"/>
                </p:cNvPr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655800" y="4292280"/>
                  <a:ext cx="181080" cy="198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  <p:grpSp>
            <p:nvGrpSpPr>
              <p:cNvPr id="277" name=""/>
              <p:cNvGrpSpPr/>
              <p:nvPr/>
            </p:nvGrpSpPr>
            <p:grpSpPr>
              <a:xfrm>
                <a:off x="4641480" y="3990600"/>
                <a:ext cx="577800" cy="527040"/>
                <a:chOff x="4641480" y="3990600"/>
                <a:chExt cx="577800" cy="527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641480" y="3990600"/>
                  <a:ext cx="577800" cy="527040"/>
                </a:xfrm>
                <a:prstGeom prst="rect">
                  <a:avLst/>
                </a:prstGeom>
                <a:solidFill>
                  <a:srgbClr val="6600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Loc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sser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9" name="" descr="rdf icons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39840" y="4295520"/>
                  <a:ext cx="18108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0" name=""/>
              <p:cNvGrpSpPr/>
              <p:nvPr/>
            </p:nvGrpSpPr>
            <p:grpSpPr>
              <a:xfrm>
                <a:off x="5268600" y="3989160"/>
                <a:ext cx="574560" cy="528480"/>
                <a:chOff x="5268600" y="3989160"/>
                <a:chExt cx="574560" cy="528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268600" y="3989160"/>
                  <a:ext cx="574560" cy="528480"/>
                </a:xfrm>
                <a:prstGeom prst="rect">
                  <a:avLst/>
                </a:prstGeom>
                <a:solidFill>
                  <a:srgbClr val="000099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op Lev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Ont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" descr="rdf icons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465520" y="429372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5892480" y="3987720"/>
                <a:ext cx="61452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Provenan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044600" y="3962160"/>
                <a:ext cx="547560" cy="555120"/>
                <a:chOff x="4044600" y="3962160"/>
                <a:chExt cx="547560" cy="55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4044600" y="3962160"/>
                  <a:ext cx="500400" cy="502560"/>
                  <a:chOff x="4044600" y="3962160"/>
                  <a:chExt cx="500400" cy="5025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044600" y="3962160"/>
                    <a:ext cx="50040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87" name="" descr="rdf icons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4080" y="4235400"/>
                    <a:ext cx="18072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4068360" y="3989160"/>
                  <a:ext cx="500760" cy="502560"/>
                  <a:chOff x="4068360" y="3989160"/>
                  <a:chExt cx="500760" cy="502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068360" y="3989160"/>
                    <a:ext cx="50076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0" name="" descr="rdf icons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27840" y="4262400"/>
                    <a:ext cx="18108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091400" y="4015080"/>
                  <a:ext cx="500760" cy="502200"/>
                  <a:chOff x="4091400" y="4015080"/>
                  <a:chExt cx="500760" cy="502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091400" y="4015080"/>
                    <a:ext cx="500760" cy="50220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3" name="" descr="rdf icons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0880" y="4287960"/>
                    <a:ext cx="181080" cy="197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7380000" y="3382920"/>
              <a:ext cx="608040" cy="1333440"/>
              <a:chOff x="7380000" y="3382920"/>
              <a:chExt cx="608040" cy="13334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80000" y="3382920"/>
                <a:ext cx="608040" cy="13334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T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81440" y="3589920"/>
                <a:ext cx="603360" cy="521280"/>
                <a:chOff x="7381440" y="3589920"/>
                <a:chExt cx="603360" cy="521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434360" y="3591360"/>
                  <a:ext cx="495720" cy="515160"/>
                </a:xfrm>
                <a:prstGeom prst="rect">
                  <a:avLst/>
                </a:prstGeom>
                <a:solidFill>
                  <a:srgbClr val="000066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7381440" y="3589920"/>
                  <a:ext cx="603360" cy="521280"/>
                  <a:chOff x="7381440" y="3589920"/>
                  <a:chExt cx="603360" cy="521280"/>
                </a:xfrm>
              </p:grpSpPr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rcRect l="12723" t="5071" r="62909" b="85261"/>
                  <a:stretch/>
                </p:blipFill>
                <p:spPr>
                  <a:xfrm>
                    <a:off x="7381440" y="3589920"/>
                    <a:ext cx="603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0" name="" descr=""/>
                  <p:cNvPicPr/>
                  <p:nvPr/>
                </p:nvPicPr>
                <p:blipFill>
                  <a:blip r:embed="rId22"/>
                  <a:srcRect l="12723" t="14760" r="62909" b="62935"/>
                  <a:stretch/>
                </p:blipFill>
                <p:spPr>
                  <a:xfrm>
                    <a:off x="7539840" y="3845520"/>
                    <a:ext cx="288000" cy="2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01" name=""/>
              <p:cNvSpPr/>
              <p:nvPr/>
            </p:nvSpPr>
            <p:spPr>
              <a:xfrm>
                <a:off x="7432560" y="4140360"/>
                <a:ext cx="496440" cy="51588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787480" y="5214960"/>
              <a:ext cx="2742840" cy="709560"/>
              <a:chOff x="2787480" y="5214960"/>
              <a:chExt cx="2742840" cy="7095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87480" y="5214960"/>
                <a:ext cx="68112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4638960" y="5294880"/>
                <a:ext cx="891360" cy="549000"/>
              </a:xfrm>
              <a:prstGeom prst="flowChartMultidocumen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preadshee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675960" y="5226120"/>
                <a:ext cx="753840" cy="686520"/>
                <a:chOff x="3675960" y="5226120"/>
                <a:chExt cx="753840" cy="686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675960" y="5226120"/>
                  <a:ext cx="616680" cy="549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44360" y="529488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13120" y="536364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Rdbm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flipH="1" flipV="1" rot="16200000">
              <a:off x="7173000" y="2466720"/>
              <a:ext cx="753840" cy="754200"/>
            </a:xfrm>
            <a:custGeom>
              <a:avLst/>
              <a:gdLst>
                <a:gd name="textAreaLeft" fmla="*/ 360 w 753840"/>
                <a:gd name="textAreaRight" fmla="*/ 754560 w 753840"/>
                <a:gd name="textAreaTop" fmla="*/ -360 h 754200"/>
                <a:gd name="textAreaBottom" fmla="*/ 75420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7172280" y="4872240"/>
              <a:ext cx="755640" cy="75420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76920" y="3843360"/>
              <a:ext cx="593640" cy="411120"/>
            </a:xfrm>
            <a:prstGeom prst="leftArrow">
              <a:avLst>
                <a:gd name="adj1" fmla="val 54444"/>
                <a:gd name="adj2" fmla="val 5714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1EA-BEB5-4BE1-A219-47FFE1D4C36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2BD9-54DF-42EE-9DC7-7566569C1F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, Maestro Edition v2.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racle models segregat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Level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data sourc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sources (NC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/Local assertion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4.4M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ed triples: 2.1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ed triples: 2.3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veloped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-driven web service providing cross-application access to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962-DE5A-4F30-8B6D-028F3A1E4C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B16F-059E-44A4-8659-63DDD22673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venance at the inst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dditional data sources (MeSH, Gene Ontology, KEGG, internal data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e loa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visualizati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views (scal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B96-7321-4D83-A08C-ED58F200FE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A26FB-4E8A-42B3-A0BB-EE8F55E5F5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grative 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02:17Z</dcterms:created>
  <dc:creator>New User</dc:creator>
  <dc:description/>
  <dc:language>en-US</dc:language>
  <cp:lastModifiedBy>jl87352</cp:lastModifiedBy>
  <dcterms:modified xsi:type="dcterms:W3CDTF">2008-09-30T18:55:24Z</dcterms:modified>
  <cp:revision>58</cp:revision>
  <dc:subject/>
  <dc:title>Semantic technologies from a old DBA's Perspective</dc:title>
</cp:coreProperties>
</file>